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4713-87C0-4C39-A22C-0EAA9DE1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CBED-0789-4B7F-836C-A745888284D4}" type="slidenum"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154-79E0-4A66-ACAC-650E1869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00E-DE06-4B12-99F3-BB6E2E99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E23-80A9-4784-B24C-FCE5DFC3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DBC-285E-4CE1-BAF0-2F5768E5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0957-AF00-454E-ACB0-B9FF6CE8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75B0-FF80-4CA8-975D-EDC90CDD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B95E-6DF0-4E7C-AE65-999B7AAD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3BFB-8C11-4A92-881B-5C1E601F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7C04-317D-453B-B006-1F8BC6D7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78B5-65A6-490B-AA48-DC255E01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10C2-E3E9-4530-B954-4C38BE35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C4F-8566-4176-B6A7-F290A24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6CCC-063B-4C87-A0AE-016DC188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ED5E-E6BA-4B3A-ACAB-9AC67054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5A8A-FC00-4B83-A7A1-C95C5F34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2CA3-D954-42F5-AC0A-865A173E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8A14-FBFC-4864-B72F-754AF939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95B-A926-4191-AF48-A628CFBC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096-0325-4F05-B80E-EF1DDC2C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C01-33FA-4694-9C17-8DA94BD7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0FB-E699-48A7-8A1F-58FE0EB2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82D-134A-4C7D-8608-DE98DA9E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379-98D7-412F-A237-5596FBB3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34B-4235-4D3E-92CE-2CA5979A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A9DD-033E-496D-961E-969FD447D6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AD40-2C38-4A56-8424-C03219680B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PTER 5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entury Gothic"/>
              </a:rPr>
              <a:t>Electrons in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kel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d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ght line spectra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when connected to an energy source, gases emit distinct lines of color which can be used to identif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ydrogen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lways had the same 4 colors at the same 4 frequencies – electrons can only exist at certain energy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velopment of Atomic Model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n “excited”, electrons absorb energy and “jump” to a higher energy level (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cited atoms are unstable and lose energy only in certain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ight waves of distinct frequencies are emitted when electrons return to their “normal”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Properties of Wav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ves posses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ergy is directly proportional to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=h</a:t>
            </a:r>
            <a:r>
              <a:rPr b="0" lang="el-GR" sz="2400" spc="-1" strike="noStrike">
                <a:solidFill>
                  <a:srgbClr val="000000"/>
                </a:solidFill>
                <a:latin typeface="Century Gothic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ergy in joules=(6.63 x 1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Gothic"/>
              </a:rPr>
              <a:t>-34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J*s)x(frequency in 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equency and wavelength are indirect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=</a:t>
            </a:r>
            <a:r>
              <a:rPr b="0" lang="el-GR" sz="2400" spc="-1" strike="noStrike">
                <a:solidFill>
                  <a:srgbClr val="000000"/>
                </a:solidFill>
                <a:latin typeface="Century Gothic"/>
              </a:rPr>
              <a:t>λ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3.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Gothic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m/s=(wavelength in m)x(frequency in 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Determining Properties of Wav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wave has a frequency of 5.0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z, what energy does it poss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 wave has a 3.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m wavelength, what is its frequ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frequency of a wave with 2.9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J of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energy possessed by a wave with a wavelength of 0.025 m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79040" y="2223360"/>
            <a:ext cx="7585920" cy="128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hocolateBox"/>
              </a:rPr>
              <a:t>CHAPTER 6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Period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cientists needed a way to organize and refer to the growing number of known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tegorize the elements according to similarities in their physical and chemic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ationship between atomic structure and properties of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deleev listed the elements in vertical columns in order of increasing 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ular recurrence of physical and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k spaces left where unknown elements belonged, but able to predict their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Development of the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eley determined atomic number of the atom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nged the elements by order of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moseley"/>
          <p:cNvPicPr/>
          <p:nvPr/>
        </p:nvPicPr>
        <p:blipFill>
          <a:blip r:embed="rId1"/>
          <a:stretch/>
        </p:blipFill>
        <p:spPr>
          <a:xfrm>
            <a:off x="5410080" y="1981080"/>
            <a:ext cx="2935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Modern Periodic Tabl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040" y="2514240"/>
            <a:ext cx="773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orizontal rows of the periodic table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organized by increasing atomic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ertical column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families (organized by chemical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iodic La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when the elements are arranged in order of increasing atomic number, there is a periodic pattern in their physical and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arly Atomic Models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5" name="Picture 13" descr="rutherford"/>
          <p:cNvPicPr/>
          <p:nvPr/>
        </p:nvPicPr>
        <p:blipFill>
          <a:blip r:embed="rId1"/>
          <a:stretch/>
        </p:blipFill>
        <p:spPr>
          <a:xfrm>
            <a:off x="1447920" y="2666880"/>
            <a:ext cx="1828800" cy="1792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upload.wikimedia.org/wikipedia/commons/thumb/f/ff/Plum_pudding_atom.svg/220px-Plum_pudding_atom.svg.png"/>
          <p:cNvPicPr/>
          <p:nvPr/>
        </p:nvPicPr>
        <p:blipFill>
          <a:blip r:embed="rId2"/>
          <a:stretch/>
        </p:blipFill>
        <p:spPr>
          <a:xfrm>
            <a:off x="3581280" y="41911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http://2011period6group4.wikispaces.com/file/view/Dalton's_Model.jpg/168477035/Dalton's_Model.jpg"/>
          <p:cNvPicPr/>
          <p:nvPr/>
        </p:nvPicPr>
        <p:blipFill>
          <a:blip r:embed="rId3"/>
          <a:stretch/>
        </p:blipFill>
        <p:spPr>
          <a:xfrm>
            <a:off x="6048360" y="2438280"/>
            <a:ext cx="2629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plays the greatest part in determining the physical and chemical propertie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an be classified into four different categories based on their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440" y="2819520"/>
            <a:ext cx="781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re elements in which the outermost s and p sublevels are filled (group 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ert gas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ecause they do not partake in chemical re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lenc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outermost s and p orbi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Octe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:  8 electrons in valence sh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presentative 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elements whose outermost s or p sublevels are only partially filled (group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 1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kaline earth met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groups 2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aloge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nonmetallic elements of group 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number = number of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d sublevel contain electrons (group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ner transition 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elements whose outermost s sublevel and the nearby f sublevel contain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Electron Configurations and Periodic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1A and 2A and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groups 3A, 4A, 5A, 6A, 7A, and 0 except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 b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inner transition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iod num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principal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Atom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adius of atoms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omic rad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increases as you move down a group of the periodic table and decreases as you move form left to right across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ielding eff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se electrons on the nucleus is constant within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zation Energ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energy that is required to overcome the attraction of the nuclear charge and remove an electron to create a positive atom i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rst ionization energy decreases as you move down a group of the periodic table and increases as you move form left to right across a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Ionic Siz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c radi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size of an ion compared to same neutral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positive ions) are smaller because of the reduced energy level with the same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egative ions) are larger because of a reduced effective nuclear charge on oute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Periodic Trends in Electronegativit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egativ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an element is the ability of an atom to attract electrons within a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increases as you go across a period form left to right and decreases as you move down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The Bohr Atom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o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lanetary” model of the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lectrons in a fixed path around the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hr’s model based on his work with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nergy level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fixed energy level of an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Quantum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mount of energy required to move an electron from one energy level to the next higher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http://www.upscale.utoronto.ca/PVB/Harrison/BohrModel/planet.gif"/>
          <p:cNvPicPr/>
          <p:nvPr/>
        </p:nvPicPr>
        <p:blipFill>
          <a:blip r:embed="rId1"/>
          <a:stretch/>
        </p:blipFill>
        <p:spPr>
          <a:xfrm>
            <a:off x="6019920" y="24382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Quantum Mechanical Model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Quantum mechanical mode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mes from the mathematical solution to the Schrödinger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es not define exact path an electron takes around the nucleus, but does restrict energy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stimates probability of finding an electron in a certa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cdn.dipity.com/uploads/events/ddf5c2c3303e09ba58c490780083c18f_1M.png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entury Gothic"/>
              </a:rPr>
              <a:t>Quantum Mechanical Model Notation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 quantum numbers (n)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designate energy levels of electrons (1,2,3,4,5,6,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lectrons occup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ergy sublevels,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gions of space defined by a collection of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tomic orbital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re the cloud shapes where electrons can be found; denoted by letters (s, p, d, and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ways in which electrons are arranged around the nuclei of atoms are called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ctron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ules for ordering electrons in an 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ufbau principle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lectrons enter orbitals of lowest energy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auli exclusion principle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 atomic orbital may contain at most two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und’s rule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when electrons occupy orbitals of equal energy, one electron enters each orbital until all the orbitals contain one electron with parallel s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45720" y="86760"/>
            <a:ext cx="774144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Orbital Filling Diagram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4953240" cy="4335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2819520" y="3886200"/>
            <a:ext cx="29718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743200" y="1676520"/>
            <a:ext cx="2743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572000" y="2438280"/>
            <a:ext cx="1066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562720" y="4800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2771640" cy="895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5252760" y="251460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Fluorine (atomic #9)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5867280" y="4343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6477120" y="4343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7620120" y="4343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5867280" y="32767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</a:rPr>
              <a:t>Orbital Diagra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3p 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4s  4p  4d  4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5s  5p  5d  5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6s  6p  6d  6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7s  7p  7d  7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914400" y="2438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83772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Line 7"/>
          <p:cNvSpPr/>
          <p:nvPr/>
        </p:nvSpPr>
        <p:spPr>
          <a:xfrm flipH="1">
            <a:off x="83772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Line 8"/>
          <p:cNvSpPr/>
          <p:nvPr/>
        </p:nvSpPr>
        <p:spPr>
          <a:xfrm flipH="1">
            <a:off x="838080" y="32004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6" name="Line 9"/>
          <p:cNvSpPr/>
          <p:nvPr/>
        </p:nvSpPr>
        <p:spPr>
          <a:xfrm flipH="1">
            <a:off x="685440" y="3429000"/>
            <a:ext cx="1981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Electron Configurati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electron configurations for these atoms: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hosphoru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hosphoru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p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↑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s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↓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0:53:59Z</dcterms:created>
  <dc:creator>Leanne Vogelsong</dc:creator>
  <dc:description/>
  <dc:language>en-US</dc:language>
  <cp:lastModifiedBy>Dawn</cp:lastModifiedBy>
  <dcterms:modified xsi:type="dcterms:W3CDTF">2011-11-15T03:47:46Z</dcterms:modified>
  <cp:revision>36</cp:revision>
  <dc:subject/>
  <dc:title>Slide 1</dc:title>
</cp:coreProperties>
</file>